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41D-D08E-49E6-B20F-8B4DB08C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15A-62EC-485B-8880-FE6D260F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4AE1F-1E89-4541-B183-774EBCBC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F3FFD-2098-4562-AAB7-6466E7F4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C6443-0E66-44B1-9A3B-E0F80797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EFEAE-F4B1-4360-AEBC-F0D3B934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2DAA7-8883-4FF6-9AC7-9756ABDE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24F4F-0F13-44A0-A16F-3E65FCBF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FAA9F-D3FA-401F-BCA2-F1A7BC58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B2731-5231-4508-9455-B9D42382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92BAB-BD2E-498B-98BE-94E6B887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1DB-4C1C-4321-A3FA-9C4631E9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B04-1417-4EDC-B97A-37BF1F9C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B2F2-F3ED-4244-B3DD-519C8E98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D684-9556-4953-A048-1242B614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5F23-57F5-40B4-BBB8-6318F7DD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20AB-7104-45AD-8074-148F24DF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1A97-61E0-4749-9D89-BEACF093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0346-6890-44B6-9587-276DF3B4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F1AC-604D-443C-9C73-D428E04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C2A-53AD-4C2D-A262-537C54EA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6760-F2AD-4284-8651-53388AE0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81C6-5AF7-4259-AE4C-55788D66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2B3C-3859-49D2-82FB-9DE9CB2A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19BF-CEC8-4171-B356-8456FEF1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A2DB-1FF1-4A7A-A3CF-A7C77082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05D8-FF94-48D4-A74E-759FB6D4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3B4A-7E70-42C7-B08B-B1DBE93C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6CCA-A3EE-46BC-B28F-6924ADF9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DD965-8BB6-497E-A649-027F82E9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441A-1BF6-48D6-86A0-8E0DF983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138-AAD9-45E0-9E60-8FD43578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6D712-4014-4240-9DAC-4562488D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CEC4-DC09-4E02-A001-1F248617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BCCA-C37E-4A32-9608-379556B6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126D-E3A9-4030-A7EA-47EC2FCD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A2302-EA87-4983-8D91-8E766FEF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92C4-7019-480C-AD02-66B6B9AA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3F505-E161-46D4-88EA-686FAF47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54708-02EC-449D-910C-2728DDAE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A9777-232E-4787-98B0-06983729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70C7A-B80B-4046-8F90-51298569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6156-DAC7-4D31-B839-C54A77BF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E9BD0-594D-47DF-B2BC-9342193E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264EE-2F74-434E-B4B2-2BA3CC43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10A11-1D71-4D68-B794-5509C538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D92A2-4F5C-4F57-AA6B-F1A423D5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A738-6A12-4EB1-A25E-31AB366B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69C21-1616-4091-BEDD-C75E504D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C73A7-1BED-4073-87C5-24721376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E038-AF54-4D91-B0F8-980EC572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91640-C2E3-4DF9-B78B-042C8590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99CB2-067E-4751-B025-65A7346B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0B62-DCE4-4E1D-BD2B-FDC0F817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69F07-225E-4212-9E83-0ABF746A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AD00B-C48A-4DD6-AD66-4FAB1F51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CB2FA-9FA2-445C-8836-72B70B7A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E4404-1B9F-45BB-ABF8-9EFE5038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28A9C-F9DD-476E-A46A-26044298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BA3E5-38EA-4882-A9F2-294892A3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4842A-CF3B-4FE2-953F-3654B61D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B95F2-4090-41DA-88ED-6A772664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6E101-2D9B-4CAC-9BA1-A7358057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B21A4-C318-4F7A-B84A-DC337105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A93-9E49-42F9-B9CC-D7DF89F0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B03AB-7736-4CE4-A75B-2506D2A8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17F8D-679F-4112-AA84-E79061E4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B95C7-8DA9-4567-AF53-DA5DC2B1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26959-EC43-40D4-AC3E-D37BC634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7995E-A986-449E-A953-918FA234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827DB-8AC3-4A80-A6F0-42B053E6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2E9A6-5C1A-410C-87F6-545AADF0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26EF7-8571-4AC2-86A1-2B084297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C66F9-41CD-4403-A0AA-F54AB252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DDE00-3143-4D43-9F02-E63D6E1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70D-3237-4B70-BBC6-AC517885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F0105-58A6-4AA6-889C-136FFD95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ED725-9499-4026-9E11-E9912739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12BD7-0DBD-49A9-83EE-62595519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F2EB1-0BFF-460C-855D-6495ECB7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A2FDE-8874-4C64-8EC0-7E2517D7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2EA03-54BA-4028-BDE2-8E84D9EE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9A265-1D9B-414F-9215-ACE793BB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EBDDD-B9B5-4635-89D0-33B0494F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6A0E7-0669-413C-BE0D-54EDBF8F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71A8E-34B8-497E-8B25-88F212B0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68D8-9D48-49A6-8BAC-E712A17F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714A5-49D3-4284-9CFD-BBAC9349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389CA-0D9B-49DD-BC8D-6AC343DC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6FEB2-D6D8-4C8E-9436-8DEDBDF4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BDEC3-928F-479F-83B5-DB4E7C4C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38AE-F62A-41D6-AD8E-C20B3AB7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58DFB-EFFF-4DAD-B1F0-9E87BA9C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5CFC4-21DD-4282-B659-B2A8AA65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CF3F3-778E-48F3-B20F-E879C632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6A274-5329-45EB-A352-302CF4C6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EADE9-70F1-43A1-95BE-7414E1E8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41C-0DCC-446C-B6F0-28C0A37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15361-613B-45F4-A370-B6727742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D437A-155F-4652-925A-9F7F8412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3D56E-41AB-4218-BB05-CB60CA78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F882A-136E-419F-B661-73144B12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EB743-2B71-4770-B0EF-31752A14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9D22C-5CFB-438E-8A46-6F687C18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F6208-03A4-4A97-9554-D2ACEB62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31046-0235-4C56-8F1A-EC2AFF83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83A44-4C21-478E-A76F-E5CF1D6D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30CFD-CB71-40C4-AC5A-902EE01C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7FA5-18EF-4A36-99EE-E1BF3F37813A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7615-CB8A-4C56-9B18-658F5216337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C380-03DE-49D0-A6AD-E68948AC1687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5D93-22D0-4A6F-84B4-5C577292E54E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BB45-B786-4B17-A147-6F051B1C0A8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3906-651D-40B6-BCF2-BDC071637D34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85D5-5F35-4823-88C1-9EA86FEB7AB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C5AD-0F32-436A-A39C-5ED46B96E2F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9690-6100-42FD-84E6-683E83EE7AA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image" Target="../media/image5.wmf"/><Relationship Id="rId4" Type="http://schemas.openxmlformats.org/officeDocument/2006/relationships/slide" Target="slide3.xml"/><Relationship Id="rId5" Type="http://schemas.openxmlformats.org/officeDocument/2006/relationships/image" Target="../media/image6.wmf"/><Relationship Id="rId6" Type="http://schemas.openxmlformats.org/officeDocument/2006/relationships/slide" Target="slide3.xml"/><Relationship Id="rId7" Type="http://schemas.openxmlformats.org/officeDocument/2006/relationships/image" Target="../media/image7.wmf"/><Relationship Id="rId8" Type="http://schemas.openxmlformats.org/officeDocument/2006/relationships/slide" Target="slide3.xml"/><Relationship Id="rId9" Type="http://schemas.openxmlformats.org/officeDocument/2006/relationships/image" Target="../media/image8.wmf"/><Relationship Id="rId10" Type="http://schemas.openxmlformats.org/officeDocument/2006/relationships/slide" Target="slide3.xml"/><Relationship Id="rId11" Type="http://schemas.openxmlformats.org/officeDocument/2006/relationships/image" Target="../media/image9.wmf"/><Relationship Id="rId12" Type="http://schemas.openxmlformats.org/officeDocument/2006/relationships/slide" Target="slide3.xml"/><Relationship Id="rId13" Type="http://schemas.openxmlformats.org/officeDocument/2006/relationships/image" Target="../media/image10.wmf"/><Relationship Id="rId14" Type="http://schemas.openxmlformats.org/officeDocument/2006/relationships/slide" Target="slide3.xml"/><Relationship Id="rId15" Type="http://schemas.openxmlformats.org/officeDocument/2006/relationships/image" Target="../media/image11.wmf"/><Relationship Id="rId16" Type="http://schemas.openxmlformats.org/officeDocument/2006/relationships/slide" Target="slide3.xml"/><Relationship Id="rId17" Type="http://schemas.openxmlformats.org/officeDocument/2006/relationships/image" Target="../media/image12.wmf"/><Relationship Id="rId18" Type="http://schemas.openxmlformats.org/officeDocument/2006/relationships/image" Target="../media/image4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image" Target="../media/image6.wmf"/><Relationship Id="rId7" Type="http://schemas.openxmlformats.org/officeDocument/2006/relationships/slide" Target="slide4.xml"/><Relationship Id="rId8" Type="http://schemas.openxmlformats.org/officeDocument/2006/relationships/image" Target="../media/image7.wmf"/><Relationship Id="rId9" Type="http://schemas.openxmlformats.org/officeDocument/2006/relationships/slide" Target="slide4.xml"/><Relationship Id="rId10" Type="http://schemas.openxmlformats.org/officeDocument/2006/relationships/image" Target="../media/image8.wmf"/><Relationship Id="rId11" Type="http://schemas.openxmlformats.org/officeDocument/2006/relationships/slide" Target="slide4.xml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slide" Target="slide4.xml"/><Relationship Id="rId15" Type="http://schemas.openxmlformats.org/officeDocument/2006/relationships/image" Target="../media/image11.wmf"/><Relationship Id="rId16" Type="http://schemas.openxmlformats.org/officeDocument/2006/relationships/slide" Target="slide4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3.xml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" Target="slide5.xml"/><Relationship Id="rId7" Type="http://schemas.openxmlformats.org/officeDocument/2006/relationships/image" Target="../media/image7.wmf"/><Relationship Id="rId8" Type="http://schemas.openxmlformats.org/officeDocument/2006/relationships/slide" Target="slide5.xml"/><Relationship Id="rId9" Type="http://schemas.openxmlformats.org/officeDocument/2006/relationships/image" Target="../media/image8.wmf"/><Relationship Id="rId10" Type="http://schemas.openxmlformats.org/officeDocument/2006/relationships/slide" Target="slide5.xml"/><Relationship Id="rId11" Type="http://schemas.openxmlformats.org/officeDocument/2006/relationships/image" Target="../media/image9.wmf"/><Relationship Id="rId12" Type="http://schemas.openxmlformats.org/officeDocument/2006/relationships/slide" Target="slide5.xml"/><Relationship Id="rId13" Type="http://schemas.openxmlformats.org/officeDocument/2006/relationships/image" Target="../media/image10.wmf"/><Relationship Id="rId14" Type="http://schemas.openxmlformats.org/officeDocument/2006/relationships/slide" Target="slide5.xml"/><Relationship Id="rId15" Type="http://schemas.openxmlformats.org/officeDocument/2006/relationships/image" Target="../media/image11.wmf"/><Relationship Id="rId16" Type="http://schemas.openxmlformats.org/officeDocument/2006/relationships/slide" Target="slide5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4.xml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" Target="slide6.xml"/><Relationship Id="rId6" Type="http://schemas.openxmlformats.org/officeDocument/2006/relationships/image" Target="../media/image6.wmf"/><Relationship Id="rId7" Type="http://schemas.openxmlformats.org/officeDocument/2006/relationships/slide" Target="slide6.xml"/><Relationship Id="rId8" Type="http://schemas.openxmlformats.org/officeDocument/2006/relationships/image" Target="../media/image7.wmf"/><Relationship Id="rId9" Type="http://schemas.openxmlformats.org/officeDocument/2006/relationships/slide" Target="slide6.xml"/><Relationship Id="rId10" Type="http://schemas.openxmlformats.org/officeDocument/2006/relationships/image" Target="../media/image8.wmf"/><Relationship Id="rId11" Type="http://schemas.openxmlformats.org/officeDocument/2006/relationships/slide" Target="slide6.xml"/><Relationship Id="rId12" Type="http://schemas.openxmlformats.org/officeDocument/2006/relationships/image" Target="../media/image9.wmf"/><Relationship Id="rId13" Type="http://schemas.openxmlformats.org/officeDocument/2006/relationships/slide" Target="slide6.xml"/><Relationship Id="rId14" Type="http://schemas.openxmlformats.org/officeDocument/2006/relationships/image" Target="../media/image10.wmf"/><Relationship Id="rId15" Type="http://schemas.openxmlformats.org/officeDocument/2006/relationships/slide" Target="slide6.xml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5.xml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" Target="slide7.xml"/><Relationship Id="rId4" Type="http://schemas.openxmlformats.org/officeDocument/2006/relationships/image" Target="../media/image5.wmf"/><Relationship Id="rId5" Type="http://schemas.openxmlformats.org/officeDocument/2006/relationships/slide" Target="slide7.xml"/><Relationship Id="rId6" Type="http://schemas.openxmlformats.org/officeDocument/2006/relationships/image" Target="../media/image6.wmf"/><Relationship Id="rId7" Type="http://schemas.openxmlformats.org/officeDocument/2006/relationships/slide" Target="slide7.xml"/><Relationship Id="rId8" Type="http://schemas.openxmlformats.org/officeDocument/2006/relationships/image" Target="../media/image7.wmf"/><Relationship Id="rId9" Type="http://schemas.openxmlformats.org/officeDocument/2006/relationships/slide" Target="slide7.xml"/><Relationship Id="rId10" Type="http://schemas.openxmlformats.org/officeDocument/2006/relationships/image" Target="../media/image8.wmf"/><Relationship Id="rId11" Type="http://schemas.openxmlformats.org/officeDocument/2006/relationships/slide" Target="slide7.xml"/><Relationship Id="rId12" Type="http://schemas.openxmlformats.org/officeDocument/2006/relationships/image" Target="../media/image9.wmf"/><Relationship Id="rId13" Type="http://schemas.openxmlformats.org/officeDocument/2006/relationships/slide" Target="slide7.xml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slide" Target="slide7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6.xml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TextBox 3"/>
          <p:cNvGrpSpPr/>
          <p:nvPr/>
        </p:nvGrpSpPr>
        <p:grpSpPr>
          <a:xfrm>
            <a:off x="1182600" y="1073160"/>
            <a:ext cx="6693120" cy="2114640"/>
            <a:chOff x="1182600" y="1073160"/>
            <a:chExt cx="6693120" cy="2114640"/>
          </a:xfrm>
        </p:grpSpPr>
        <p:pic>
          <p:nvPicPr>
            <p:cNvPr id="400" name="TextBox 3" descr=""/>
            <p:cNvPicPr/>
            <p:nvPr/>
          </p:nvPicPr>
          <p:blipFill>
            <a:blip r:embed="rId1"/>
            <a:stretch/>
          </p:blipFill>
          <p:spPr>
            <a:xfrm>
              <a:off x="1182600" y="1073160"/>
              <a:ext cx="66931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285920" y="1285920"/>
              <a:ext cx="6491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вивающая игр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Найди такой же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4"/>
          <p:cNvSpPr/>
          <p:nvPr/>
        </p:nvSpPr>
        <p:spPr>
          <a:xfrm>
            <a:off x="1466280" y="40719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Franklin Gothic Book"/>
              </a:rPr>
              <a:t>Цель: развитие вни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1071720" y="1428840"/>
            <a:ext cx="700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кажи в таблице  тот предм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торый изображен с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ответ верный, ты услышишь аплодисмент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перейти к следующему заданию, кликни левую кнопку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13" descr="J0215358.WMF"/>
          <p:cNvPicPr/>
          <p:nvPr/>
        </p:nvPicPr>
        <p:blipFill>
          <a:blip r:embed="rId1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4" descr="J0215360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5" descr="J0215361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29240" y="114300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29240" y="428616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2" descr="J0215358.WMF"/>
          <p:cNvPicPr/>
          <p:nvPr/>
        </p:nvPicPr>
        <p:blipFill>
          <a:blip r:embed="rId18"/>
          <a:stretch/>
        </p:blipFill>
        <p:spPr>
          <a:xfrm>
            <a:off x="857160" y="2214720"/>
            <a:ext cx="1627200" cy="2301840"/>
          </a:xfrm>
          <a:prstGeom prst="rect">
            <a:avLst/>
          </a:prstGeom>
          <a:ln w="0">
            <a:noFill/>
          </a:ln>
        </p:spPr>
      </p:pic>
      <p:pic>
        <p:nvPicPr>
          <p:cNvPr id="423" name="j0214098.wav" descr=""/>
          <p:cNvPicPr/>
          <p:nvPr/>
        </p:nvPicPr>
        <p:blipFill>
          <a:blip r:embed="rId19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745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4286160"/>
            <a:ext cx="1530000" cy="11304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0760" y="1214280"/>
            <a:ext cx="1149120" cy="10051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92880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414324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19" descr="J0215163.WMF"/>
          <p:cNvPicPr/>
          <p:nvPr/>
        </p:nvPicPr>
        <p:blipFill>
          <a:blip r:embed="rId13"/>
          <a:stretch/>
        </p:blipFill>
        <p:spPr>
          <a:xfrm>
            <a:off x="6572160" y="257184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86080" y="2714760"/>
            <a:ext cx="1201680" cy="111096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4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3" descr="J0215163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00040" y="2286000"/>
            <a:ext cx="2252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14920" y="4214880"/>
            <a:ext cx="1530360" cy="11304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5" descr="J0215361.WMF"/>
          <p:cNvPicPr/>
          <p:nvPr/>
        </p:nvPicPr>
        <p:blipFill>
          <a:blip r:embed="rId5"/>
          <a:stretch/>
        </p:blipFill>
        <p:spPr>
          <a:xfrm>
            <a:off x="3500280" y="442908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929120" y="271476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29240" y="1143000"/>
            <a:ext cx="1202040" cy="111132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50088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6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22" descr="J02153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85840" y="2143080"/>
            <a:ext cx="26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21488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29120" y="1214280"/>
            <a:ext cx="1149480" cy="100512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100008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000760" y="4286160"/>
            <a:ext cx="1071360" cy="11588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929120" y="264312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20" descr="J0215161.WM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21" descr="J0215368.WMF"/>
          <p:cNvPicPr/>
          <p:nvPr/>
        </p:nvPicPr>
        <p:blipFill>
          <a:blip r:embed="rId17"/>
          <a:stretch/>
        </p:blipFill>
        <p:spPr>
          <a:xfrm>
            <a:off x="357192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8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23" descr="J0215368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42960" y="2000160"/>
            <a:ext cx="1901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745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0" descr="J0215161.WMF"/>
          <p:cNvPicPr/>
          <p:nvPr/>
        </p:nvPicPr>
        <p:blipFill>
          <a:blip r:embed="rId15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02" name="j0214098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2" descr="J02151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28760" y="2571840"/>
            <a:ext cx="2396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45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Рисунок 13" descr="J0215358.WMF"/>
          <p:cNvPicPr/>
          <p:nvPr/>
        </p:nvPicPr>
        <p:blipFill>
          <a:blip r:embed="rId1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14" descr="J0215360.WMF"/>
          <p:cNvPicPr/>
          <p:nvPr/>
        </p:nvPicPr>
        <p:blipFill>
          <a:blip r:embed="rId2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5" descr="J0215361.WMF"/>
          <p:cNvPicPr/>
          <p:nvPr/>
        </p:nvPicPr>
        <p:blipFill>
          <a:blip r:embed="rId3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6" descr="J0215362.WMF"/>
          <p:cNvPicPr/>
          <p:nvPr/>
        </p:nvPicPr>
        <p:blipFill>
          <a:blip r:embed="rId4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7" descr="J0215363.WMF"/>
          <p:cNvPicPr/>
          <p:nvPr/>
        </p:nvPicPr>
        <p:blipFill>
          <a:blip r:embed="rId5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18" descr="J0215155.WMF"/>
          <p:cNvPicPr/>
          <p:nvPr/>
        </p:nvPicPr>
        <p:blipFill>
          <a:blip r:embed="rId6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19" descr="J0215163.WMF"/>
          <p:cNvPicPr/>
          <p:nvPr/>
        </p:nvPicPr>
        <p:blipFill>
          <a:blip r:embed="rId7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0" descr="J0215161.WMF"/>
          <p:cNvPicPr/>
          <p:nvPr/>
        </p:nvPicPr>
        <p:blipFill>
          <a:blip r:embed="rId8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21" descr="J0215368.WMF"/>
          <p:cNvPicPr/>
          <p:nvPr/>
        </p:nvPicPr>
        <p:blipFill>
          <a:blip r:embed="rId9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22" name="j0214098.wav" descr=""/>
          <p:cNvPicPr/>
          <p:nvPr/>
        </p:nvPicPr>
        <p:blipFill>
          <a:blip r:embed="rId10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23" descr="J0215363.WMF"/>
          <p:cNvPicPr/>
          <p:nvPr/>
        </p:nvPicPr>
        <p:blipFill>
          <a:blip r:embed="rId11"/>
          <a:stretch/>
        </p:blipFill>
        <p:spPr>
          <a:xfrm>
            <a:off x="0" y="2571840"/>
            <a:ext cx="2543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83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84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extBox 2" descr=""/>
          <p:cNvPicPr/>
          <p:nvPr/>
        </p:nvPicPr>
        <p:blipFill>
          <a:blip r:embed="rId1"/>
          <a:stretch/>
        </p:blipFill>
        <p:spPr>
          <a:xfrm>
            <a:off x="2382840" y="1895400"/>
            <a:ext cx="3968640" cy="1451160"/>
          </a:xfrm>
          <a:prstGeom prst="rect">
            <a:avLst/>
          </a:prstGeom>
          <a:ln w="0">
            <a:noFill/>
          </a:ln>
        </p:spPr>
      </p:pic>
      <p:sp>
        <p:nvSpPr>
          <p:cNvPr id="525" name="TextBox 3"/>
          <p:cNvSpPr/>
          <p:nvPr/>
        </p:nvSpPr>
        <p:spPr>
          <a:xfrm>
            <a:off x="2128680" y="5072040"/>
            <a:ext cx="45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Book"/>
              </a:rPr>
              <a:t>Автор през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4:47:34Z</dcterms:created>
  <dc:creator>ОЕМ</dc:creator>
  <dc:description/>
  <dc:language>en-US</dc:language>
  <cp:lastModifiedBy>ОЕМ</cp:lastModifiedBy>
  <dcterms:modified xsi:type="dcterms:W3CDTF">2010-01-20T06:37:55Z</dcterms:modified>
  <cp:revision>15</cp:revision>
  <dc:subject/>
  <dc:title>Слайд 1</dc:title>
</cp:coreProperties>
</file>